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2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0A6E-BCD5-439A-9784-2AC413AF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0012-4D6B-41C4-8610-E7637009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44FC-3E17-43EA-9D2E-4F9E908EA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9DA9-B88D-4499-9AE4-CF1B672C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ADCB-E371-473F-89FD-6C76BA89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142F-0AFE-46A8-BE3E-FD39D927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1201-D240-4460-A8AF-BDC7311D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883B-06FB-4BEC-AFA2-2D5196EB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6C3D-A115-4A9D-BA73-66BC16E4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2358-85DE-4CF0-90C0-45F8CE9E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1EF5-3D38-4C15-88A4-DFCB4A83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0A98-9226-4E4D-BF0A-178B7164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A76A-B256-4AF1-A5DC-124F092E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13CA-C369-47CC-9B0F-A0886B60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8F50-70B1-4503-84D0-94C48A72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4C1B-29FC-4F23-BB58-281634B81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227B-09AB-4C29-B834-270CDE05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BC845-89C8-4CFA-B21F-BFB3FE7C2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EE3A2-ACAE-4A04-A1D4-4904638F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49CD9-9D14-4100-B18B-00426A45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79A28-EEF4-4E5D-946B-AAE8D3C6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31553-C172-439A-AE04-F71EE104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5901-3830-464E-9B91-DE2E4E43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0744D-972B-48F4-92CA-6324A7C0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2705D-7FDF-4B71-B0E4-CCD9A56F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17604-291B-4A69-B273-6B47A8EB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3A3DD-F7D1-45D2-8A5F-46F6A4E1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A669C-0B5F-4217-A0DE-58FE2556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ECA9C-168F-4F2A-89A0-D26CE7DB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A682A-5DD4-4125-8D4E-8B282F48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89A6A-AB13-4CBE-9961-53A52A821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846FC-4286-4E1E-B172-5876C9B5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2CCE2-0A46-4CF1-AF50-7650ACDF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1476-D7D0-4565-ADFA-071157CC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30FB0-3AFB-48F8-8DF9-FFB0001A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40B7B-9DDC-4B85-92E1-3BE15453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12E5F-49D4-433C-A0C7-34078476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81C0B-8601-4FDB-B17D-5CF71211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08E4E-B246-4B41-9971-09B76911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70827-9298-49BC-B649-862E46F5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FA96F-9F61-4E36-9318-CC07901F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BC60B-D9D5-4947-ABC6-33F8ECD29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8EEE6-3A16-4551-A184-80F6B9C42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F3E1-C07D-4A48-AACE-F3735A41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98A9-3D8C-4001-BC3B-638AA18C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0C07-57A0-4911-A5BD-26184444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CA26-6C48-40CA-8666-C2F96C6F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36FA-96EF-4D98-9899-91C1A41F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50000">
              <a:srgbClr val="000000"/>
            </a:gs>
            <a:gs pos="100000">
              <a:srgbClr val="ffffd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EDF8-4A73-4BFB-A941-E13507F14C4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001a"/>
            </a:gs>
            <a:gs pos="50000">
              <a:srgbClr val="ffffff"/>
            </a:gs>
            <a:gs pos="100000">
              <a:srgbClr val="86001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C35D-4C34-48DC-9FBE-E5FA605C02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50000">
              <a:srgbClr val="000000"/>
            </a:gs>
            <a:gs pos="100000">
              <a:srgbClr val="ffffd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D7FD-A94B-4516-9F5A-854BE7002E1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001a"/>
            </a:gs>
            <a:gs pos="50000">
              <a:srgbClr val="ffffff"/>
            </a:gs>
            <a:gs pos="100000">
              <a:srgbClr val="86001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58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7C42-4423-477D-B36A-E2C6D7CF3D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9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 9-weeks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C.  Sharing control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1532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Environment Protection Agency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4"/>
          <p:cNvSpPr/>
          <p:nvPr/>
        </p:nvSpPr>
        <p:spPr>
          <a:xfrm>
            <a:off x="304920" y="3581280"/>
            <a:ext cx="8381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does FCC stand for?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8951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Federal Communications Commission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4"/>
          <p:cNvSpPr/>
          <p:nvPr/>
        </p:nvSpPr>
        <p:spPr>
          <a:xfrm>
            <a:off x="304920" y="3581280"/>
            <a:ext cx="8381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does FTC stand for?</a:t>
            </a:r>
            <a:br>
              <a:rPr sz="3500"/>
            </a:b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560" y="28951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Federal Trade Commission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4"/>
          <p:cNvSpPr/>
          <p:nvPr/>
        </p:nvSpPr>
        <p:spPr>
          <a:xfrm>
            <a:off x="152280" y="62485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Interstate highways, postal service and national defense are all examples of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Supply and demand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Public goods and servic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Economic activit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businesses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  Public goods and services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4"/>
          <p:cNvSpPr/>
          <p:nvPr/>
        </p:nvSpPr>
        <p:spPr>
          <a:xfrm>
            <a:off x="152280" y="62485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anks, savings and loans, credit unions and securities brokerages are all examples of a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Private financial institut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government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Consumer sovereignt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Public good and service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520" y="29718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  Private financial institute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"/>
          <p:cNvSpPr/>
          <p:nvPr/>
        </p:nvSpPr>
        <p:spPr>
          <a:xfrm>
            <a:off x="152280" y="62485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Private financial institutes receive deposits and make –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loan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payment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good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services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ich of the following is NOT a function of political parties?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Monitors the actions of officeholders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Educating the electorate about campaig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Paying people to vote for a particula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didat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Help candidates win elections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520" y="2514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  loans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4"/>
          <p:cNvSpPr/>
          <p:nvPr/>
        </p:nvSpPr>
        <p:spPr>
          <a:xfrm>
            <a:off x="152280" y="52578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determines price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Interaction of supply and demand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Who acquires goods and servic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The value of what is given up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Resources available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286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  Interaction of supply and 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152280" y="52578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does price determine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Interaction of supply and demand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Who acquires goods and servic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The value of what is given up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Resources available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590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  Who acquires goods and 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"/>
          <p:cNvSpPr/>
          <p:nvPr/>
        </p:nvSpPr>
        <p:spPr>
          <a:xfrm>
            <a:off x="152280" y="52578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ich is NOT a type of business ownership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partnership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corpora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proprietorship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entrepreneurs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590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D.  entrepreneurs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4"/>
          <p:cNvSpPr/>
          <p:nvPr/>
        </p:nvSpPr>
        <p:spPr>
          <a:xfrm>
            <a:off x="152280" y="52578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o plays an important role in all three business organizations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partnership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corpora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proprietorship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entrepreneurs </a:t>
            </a: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590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D.  entrepreneurs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4"/>
          <p:cNvSpPr/>
          <p:nvPr/>
        </p:nvSpPr>
        <p:spPr>
          <a:xfrm>
            <a:off x="152280" y="52578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is selecting an item or action from a set of possible alternatives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choic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incentiv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pric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deman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520" y="3200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C.  Paying people to vote for a 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articular candidate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  choice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"/>
          <p:cNvSpPr/>
          <p:nvPr/>
        </p:nvSpPr>
        <p:spPr>
          <a:xfrm>
            <a:off x="152280" y="52578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is the amount of money exchanged for a good or service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choic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incentiv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pric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deman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160" y="29718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C.  price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4"/>
          <p:cNvSpPr/>
          <p:nvPr/>
        </p:nvSpPr>
        <p:spPr>
          <a:xfrm>
            <a:off x="152280" y="52578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Name the economy where markets are allowed to operate without undue interference from the government.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enterpris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Free market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Mixed econom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Command econom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520" y="29718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  Free market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type of system characterizes the American political process?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One-party system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Two-party system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Multi-party system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The most experienced candidate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160" y="28951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  Two-party system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4"/>
          <p:cNvSpPr/>
          <p:nvPr/>
        </p:nvSpPr>
        <p:spPr>
          <a:xfrm>
            <a:off x="228600" y="6095880"/>
            <a:ext cx="84582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is required before a citizen may vote?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Voter registra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15 years of age by day of general elec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Lobbying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Expressing an interest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31237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  Voter registration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"/>
          <p:cNvSpPr/>
          <p:nvPr/>
        </p:nvSpPr>
        <p:spPr>
          <a:xfrm>
            <a:off x="228600" y="6095880"/>
            <a:ext cx="8686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ll of the following are qualifications to register and vote in Virginia EXCEPT: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Citizen of the United Stat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Resident of Virginia and precinct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Hold a job in Virgini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18 years of age by day of general election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520" y="304812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Hold a job in Virgin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228600" y="5715000"/>
            <a:ext cx="8610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Persons CANNOT register to vote in Virginia –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In person at the registrar’s offic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In person at the Division of Motor Vehicl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By telephon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By mail application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32767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Elections, Parties, and Pressure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E.5 a-f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E.7 c-d</a:t>
            </a:r>
            <a:br>
              <a:rPr sz="3500"/>
            </a:br>
            <a:br>
              <a:rPr sz="3500"/>
            </a:b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8088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merican Free Market System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E.9 a-c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E.10 a-c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E.11 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590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C.  By telephone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is a basic responsibility of citizenship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Voting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Obeying the law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Lobbying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Expressing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9718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  Voting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/>
          <p:cNvSpPr/>
          <p:nvPr/>
        </p:nvSpPr>
        <p:spPr>
          <a:xfrm>
            <a:off x="228600" y="6477120"/>
            <a:ext cx="868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y have campaign finance laws been reformed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Charities donate to their favorite candidat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Rising costs limit who can afford to run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Individuals refused to donate mone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Candidates could not afford the applicat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e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5909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  Rising costs limit who can 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fford to run for office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Voter participation is usually greatest in --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Local election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State election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Congressional election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Presidential elections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3200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D.  Presidential elections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Rising campaign costs encouraged the development of what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Third parti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Political action committe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Nationwide boycotts of election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Low income candidates seeking office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9718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  Political action committees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In the electoral college process, the slate of electors for each state is chosen by what?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Poplar vot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Number of cities in the stat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State’s Congressional representa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Is the same for every state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term means seeking to influence legislators to introduce or vote for or against a bill?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Participating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Joining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Lobbying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Expressing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520" y="28951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  Poplar vote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228600" y="5715000"/>
            <a:ext cx="8534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ich is NOT a similarity between political parties?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Both organize to win election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Both influence public polici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Both develop the same platform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Both define themselves in a way that win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ority support by appealing to center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2743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C.  Both develop same platforms  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228600" y="6400800"/>
            <a:ext cx="8915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ich of the following is true of third parties?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They introduce new ideas or press for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cular issu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They appeal to all voter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They never have extremist idea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They win a majority of elections, because the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olve a political personality 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 They introduce new ideas and pres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a particular iss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ich of the following is NOT a strategy informed citizens use to make choices in elections?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Identifying propagand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Evaluating sourc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Confusing fact with opin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Detecting bias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160" y="23623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C.  Confusing fact with opinion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group influences elections by identifying candidates, writing editorials, creating political cartoons and broadcasting different points of view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citizen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lobbyist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Political action committe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mass media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160" y="28951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D.  Mass media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"/>
          <p:cNvSpPr/>
          <p:nvPr/>
        </p:nvSpPr>
        <p:spPr>
          <a:xfrm>
            <a:off x="228600" y="63244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ll of the following are ways the media plays an important role in setting the public agenda EXCEPT: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Focusing public attention on select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Offering a forum in which oppos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ewpoints are communicated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Holding government official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untable to the public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Gathering petitions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C.  Lobbying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30481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D.  Gathering petitions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he United States economy is a -- ?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Mixed econom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Command econom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Government controlled econom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Traditional economy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160" y="22093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  Mixed economy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4"/>
          <p:cNvSpPr/>
          <p:nvPr/>
        </p:nvSpPr>
        <p:spPr>
          <a:xfrm>
            <a:off x="228600" y="59436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 command economy is one that –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Has central ownership of property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Is the most common economic syste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da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Has a greater government role than in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 market econom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Has private ownership of property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s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2590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  Has central ownership of 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roperty and resources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In a mixed economy the government --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Makes decisions for the public sector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Adjusts supply and demand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Limits individual choic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Centrally plans the economy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352320"/>
            <a:ext cx="81532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D.  Centrally plans the economy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he most common economic system today is –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Central ownership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Mixed econom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Command econom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Free market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437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  Mixed economy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he following are characteristics of the United States economy EXCEPT: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Free market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Private part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profit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Central ownership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he requirements for a majority vote to win in the electoral college favors a -- ?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Two-party system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Multi-party system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One-party system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The most experienced candidate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160" y="26665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D.  Central ownership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economic system is based on private ownership of property, profit and individual choice?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traditional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free market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command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subsistence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520" y="28951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  Free market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is given up when a choice is made---the highest valued alternative forgone?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Opportunity cost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Price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Competi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Demand</a:t>
            </a:r>
            <a:br>
              <a:rPr sz="28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520" y="27432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  Opportunity Cost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are things that incite or motivate and are used to change economic behavior?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competi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incentiv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market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costs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520" y="28195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  incentives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is the combining of human, natural, capital and entrepreneurship resources to make goods or provide services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consump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produc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regula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promotion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2590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  promotion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ll of the following are resources EXCEPT: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natural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entrepreneurship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capital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Supply and demand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28195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  Two-party system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160" y="33523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D.  Supply and demand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is the using of goods and services?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Consump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Produc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Regula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Promotion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28195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  Consumption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consists of earnings after all expenses have been paid?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profit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Competi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pric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Consumer soverignty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  profit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onsumers determine through purchases what goods and services will be produced.  This is –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Consumer sovereignt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Supply and demand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Economic flow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Financial capital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560" y="28195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  Consumer sovereignty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is rivalry between producers and sellers of a good or service resulting in better quality of goods and services at a lower price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partnership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corpora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competi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lobbying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520" y="30481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C.  competition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is the amount of a good or service that consumers are willing and able to 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buy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at a certain price?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demand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suppl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pric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profit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ll of the following are ways interest groups influence public policy EXCEPT: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Identifying issu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Making political contribution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Voting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Lobbying government officials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520" y="2437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  demand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is the amount of a good or service that consumers are willing and able to 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sell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at a certain price?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demand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suppl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pric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profit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437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  supply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y must individuals choose/make decisions about desired goods and services?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Because they are sufficient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Because they are limited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Because they are marketabl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Because they are plentiful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3623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  Because they are limited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380880" y="58672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vailable resources and consumer preferences determine what is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consumed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produced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promoted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regulated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3623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  produced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5"/>
          <p:cNvSpPr/>
          <p:nvPr/>
        </p:nvSpPr>
        <p:spPr>
          <a:xfrm>
            <a:off x="380880" y="58672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onsumer preferences and price determine what is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consumed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produced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purchased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regulated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C.  purchased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4"/>
          <p:cNvSpPr/>
          <p:nvPr/>
        </p:nvSpPr>
        <p:spPr>
          <a:xfrm>
            <a:off x="380880" y="58672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Private financial institutions encourage saving and investing by --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Paying interest on deposit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Offering credit card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Charging monthly fe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Providing loans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9718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C.  Voting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520" y="2514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  Paying interest on deposits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4"/>
          <p:cNvSpPr/>
          <p:nvPr/>
        </p:nvSpPr>
        <p:spPr>
          <a:xfrm>
            <a:off x="380880" y="58672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promotes and regulates competition?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Credit union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government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Securities brokerag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individuals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  government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"/>
          <p:cNvSpPr/>
          <p:nvPr/>
        </p:nvSpPr>
        <p:spPr>
          <a:xfrm>
            <a:off x="380880" y="58672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is a form of business organization with one owner who takes all the risks and all the profits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partnership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proprietorship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entrepreneur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corporation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7432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  proprietorship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4"/>
          <p:cNvSpPr/>
          <p:nvPr/>
        </p:nvSpPr>
        <p:spPr>
          <a:xfrm>
            <a:off x="380880" y="58672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is a form of business organization with two or more owners who share the risks and the profits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partnership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proprietorship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entrepreneur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corporation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8951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  partnership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80880" y="63244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is a form of business organization that is authorized by law to act as a legal person regardless of the number of owners and where owners share profits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partnership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proprietorship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entrepreneur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corporation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9718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D.  Corporation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4"/>
          <p:cNvSpPr/>
          <p:nvPr/>
        </p:nvSpPr>
        <p:spPr>
          <a:xfrm>
            <a:off x="152280" y="58672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o can take risk to produce goods and services in search of profit and may establish any one of the three types of business structures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partnership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proprietorship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entrepreneur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corporation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Individuals can express opinions in influencing public policy by doing all of the following EXCEPT: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Lobbying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Demonstrating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Sharing control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Writing letters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160" y="2437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C.  entrepreneur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-76320" y="64008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buys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resources, makes products that are sold to individuals, other businesses and the government, and used the profits to buy more resources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Businesses (producers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servic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good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Individuals (households)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26665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  Businesses (producers)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5"/>
          <p:cNvSpPr/>
          <p:nvPr/>
        </p:nvSpPr>
        <p:spPr>
          <a:xfrm>
            <a:off x="152280" y="56386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owns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the resources used in production, sells the resources and uses the income to purchase products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Businesses (producers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servic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good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Individuals (households)</a:t>
            </a: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520" y="28195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D.  Individuals (households)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228600" y="5867280"/>
            <a:ext cx="8381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he government uses legislation to discourage monopolies in order to –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Promote competi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Trade globall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Limit competi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Encourage investments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31237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  Promote competition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4"/>
          <p:cNvSpPr/>
          <p:nvPr/>
        </p:nvSpPr>
        <p:spPr>
          <a:xfrm>
            <a:off x="152280" y="62485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he government regulates business by using agencies to oversee business practices.  All of the following are agencies EXCEPT: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FCC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EP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FTC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CIA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560" y="30481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D.  CIA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>
            <a:off x="304920" y="3581280"/>
            <a:ext cx="8381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does EPA stand for?</a:t>
            </a:r>
            <a:br>
              <a:rPr sz="3500"/>
            </a:b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9:42:32Z</dcterms:created>
  <dc:creator>paupulley</dc:creator>
  <dc:description/>
  <dc:language>en-US</dc:language>
  <cp:lastModifiedBy>Deborah L. Welker</cp:lastModifiedBy>
  <dcterms:modified xsi:type="dcterms:W3CDTF">2012-05-25T09:57:20Z</dcterms:modified>
  <cp:revision>27</cp:revision>
  <dc:subject/>
  <dc:title>Civics</dc:title>
</cp:coreProperties>
</file>